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10.wmf" ContentType="image/x-wmf"/>
  <Override PartName="/ppt/media/image6.jpeg" ContentType="image/jpeg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media/image1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A84CF-321C-4C19-90A6-16E3F9B6D2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4EDBB-A450-4CB6-88F5-F8238DE6F1A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6333-242C-43AE-98E5-E589F0784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E3A7-2C75-4FD7-9DE1-4119EBBC5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D8FB-0171-460B-A68E-839CA24BD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A130-B8C3-4261-A63E-01344218E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19F9-2F08-4AA6-87B4-7E5240551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D5DA-6295-417D-BE51-B5E2C8746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2EFD-F0E1-4D4F-932B-465E9BC12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2803-1AEB-45E2-A7A2-B2AB896CA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8B1D-D0A9-45A4-BBA1-5C3EF5256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00AE-D8FA-4C08-9D55-48C9D5C3D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62AA-6D2E-4F04-8279-7235E94E0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6DBF-682C-4235-8D30-3C5B5A4DF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F5CEE-D022-44AF-BC61-38D68AEB9E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228600" y="228600"/>
            <a:ext cx="8686800" cy="203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Wednesday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" name=""/>
          <p:cNvSpPr/>
          <p:nvPr/>
        </p:nvSpPr>
        <p:spPr>
          <a:xfrm>
            <a:off x="2514600" y="5195880"/>
            <a:ext cx="4648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Times New Roman"/>
              </a:rPr>
              <a:t>3/24/1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tudent Objective</a:t>
            </a:r>
            <a:br>
              <a:rPr sz="4400"/>
            </a:br>
            <a:fld id="{EB90EDD9-0B63-467C-B17A-73F92F35A56D}" type="datetime2">
              <a:rPr b="1" lang="en-US" sz="2400" spc="-1" strike="noStrike">
                <a:solidFill>
                  <a:srgbClr val="000000"/>
                </a:solidFill>
                <a:latin typeface="Arial"/>
              </a:rPr>
              <a:t>Wednesday, July 29, 2026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16640" cy="41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udents will be able to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Explain changes you can make to increase the strength of an electromagnet.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1371600" y="380880"/>
            <a:ext cx="60958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Let's Investigat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1905120" y="2225520"/>
            <a:ext cx="5172120" cy="25178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Electromagnet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2368440" y="3135960"/>
            <a:ext cx="5077440" cy="3461760"/>
            <a:chOff x="2368440" y="3135960"/>
            <a:chExt cx="5077440" cy="3461760"/>
          </a:xfrm>
        </p:grpSpPr>
        <p:sp>
          <p:nvSpPr>
            <p:cNvPr id="190" name=""/>
            <p:cNvSpPr/>
            <p:nvPr/>
          </p:nvSpPr>
          <p:spPr>
            <a:xfrm>
              <a:off x="2368440" y="3157560"/>
              <a:ext cx="1464120" cy="515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099600" y="3672720"/>
              <a:ext cx="0" cy="25754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2" name="" descr=""/>
            <p:cNvPicPr/>
            <p:nvPr/>
          </p:nvPicPr>
          <p:blipFill>
            <a:blip r:embed="rId1"/>
            <a:stretch/>
          </p:blipFill>
          <p:spPr>
            <a:xfrm rot="10800000">
              <a:off x="2513880" y="3877560"/>
              <a:ext cx="1208160" cy="20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>
              <a:off x="3539520" y="5938920"/>
              <a:ext cx="2635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4" name="" descr=""/>
            <p:cNvPicPr/>
            <p:nvPr/>
          </p:nvPicPr>
          <p:blipFill>
            <a:blip r:embed="rId2"/>
            <a:stretch/>
          </p:blipFill>
          <p:spPr>
            <a:xfrm rot="8409600">
              <a:off x="4606920" y="3556080"/>
              <a:ext cx="2261520" cy="26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 flipV="1">
              <a:off x="3539520" y="3855600"/>
              <a:ext cx="1819080" cy="2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80520" y="1523880"/>
            <a:ext cx="81536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Broadway"/>
              </a:rPr>
              <a:t>What variables affect the strength of an electromagnet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1219320" y="228600"/>
            <a:ext cx="655308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Question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1219320" y="228600"/>
            <a:ext cx="655308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rocedure..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9" name=""/>
          <p:cNvSpPr/>
          <p:nvPr/>
        </p:nvSpPr>
        <p:spPr>
          <a:xfrm>
            <a:off x="228600" y="1447920"/>
            <a:ext cx="8763120" cy="52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struct an electromagnet with 25 coils using the nail and wire provided at your lab sta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lete the table by testing how many paper clips your electromagnet can pick up in the given condition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est each one 3 times and average your results (You may login to the computer and use a calculator to find the average result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cord the result of each test and the average in the space provide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ake apart your 25 coil electromagnet and put all the supplies back as you found them when you arrive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swer the conclusion questions on the back of your lab workshee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6172200" y="0"/>
            <a:ext cx="2971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: 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: 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76320" y="76320"/>
            <a:ext cx="59436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igh Tower Text"/>
              </a:rPr>
              <a:t>Electromagnetic Variabl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igh Tower Text"/>
              <a:ea typeface="High Tower Text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914400"/>
            <a:ext cx="9144000" cy="89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rections:  Build an electromagnet using the specified batteries and perform tests to complete the chart below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MEMBER:  ONLY HAVE YOUR CIRCUIT COMPLETE WHILE YOU ARE PERFORMING EACH TEST!  TURN OFF THE ELECTROMAGNET BETWEEN TRIALS!!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457200" y="1905120"/>
          <a:ext cx="8229600" cy="46591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664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ergy Sour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Coi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ps Picked U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D Batte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 Coi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 Coi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D Batter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 Coi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 Coi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Volt Batte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 Coi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 Coi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1523880" y="76320"/>
            <a:ext cx="5943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igh Tower Text"/>
              </a:rPr>
              <a:t>Conclusion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igh Tower Text"/>
              <a:ea typeface="High Tower Text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685800"/>
            <a:ext cx="9144000" cy="54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 What were some variables we test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were some of your controls to make sure your experiment was vali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are 3 ways you can increase the strength of an electromagne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are some advantages that electromagnets have over permanent magnet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1523880" y="76320"/>
            <a:ext cx="5943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igh Tower Text"/>
              </a:rPr>
              <a:t>Conclusion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igh Tower Text"/>
              <a:ea typeface="High Tower Text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685800"/>
            <a:ext cx="9144000" cy="58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 What were some variables we test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were some of your controls to make sure your experiment was vali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are 3 ways you can increase the strength of an electromagne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are some advantages that electromagnets have over permanent magnet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80880" y="106668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Arial"/>
              </a:rPr>
              <a:t>We tested the number of coils, the amount of current, the size of the core, and the neatness of the coi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0880" y="237816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Arial"/>
              </a:rPr>
              <a:t>Part of nail used to pick up paperclips, size and length of wire, direction of coil wra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80880" y="3505320"/>
            <a:ext cx="85345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66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Arial"/>
              </a:rPr>
              <a:t>Increase the number of coils or loo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66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Arial"/>
              </a:rPr>
              <a:t>Increase the curr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66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Arial"/>
              </a:rPr>
              <a:t>Increase the size of the co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66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Arial"/>
              </a:rPr>
              <a:t>Increase the neatness/tightness of the coi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80880" y="594360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Arial"/>
              </a:rPr>
              <a:t>Electromagnets can be strengthened, turned off, and you can switch their po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8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8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8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143000" y="76320"/>
            <a:ext cx="693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cc33"/>
                </a:solidFill>
                <a:latin typeface="Times New Roman"/>
              </a:rPr>
              <a:t>HOMEWORK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90440" y="1400400"/>
            <a:ext cx="868680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0000"/>
                </a:solidFill>
                <a:uFillTx/>
                <a:latin typeface="Times New Roman"/>
              </a:rPr>
              <a:t>DUE FRIDA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ject Step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ey Questions 11-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Quiz 3 – Electricity &amp; Magnet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3200400" y="4876920"/>
            <a:ext cx="2712960" cy="144756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0" y="63244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Alway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py daily </a:t>
            </a:r>
            <a:r>
              <a:rPr b="0" lang="en-US" sz="2400" spc="-1" strike="noStrike">
                <a:solidFill>
                  <a:srgbClr val="33cc33"/>
                </a:solidFill>
                <a:latin typeface="Tahoma"/>
              </a:rPr>
              <a:t>homewor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to your agen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52280" y="1295280"/>
            <a:ext cx="8763120" cy="3276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7" name="TPChart"/>
          <p:cNvGraphicFramePr/>
          <p:nvPr/>
        </p:nvGraphicFramePr>
        <p:xfrm>
          <a:off x="4508640" y="2438280"/>
          <a:ext cx="4572000" cy="435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2438280"/>
                    <a:ext cx="4572000" cy="435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686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romagnets can be strengthened by increasing the number of coils or loops, increasing the current, increasing the size of the core, and or neatening/tightening the coi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28240" y="228600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AnswerNow"/>
          <p:cNvGrpSpPr/>
          <p:nvPr/>
        </p:nvGrpSpPr>
        <p:grpSpPr>
          <a:xfrm>
            <a:off x="3416400" y="76320"/>
            <a:ext cx="2222280" cy="444240"/>
            <a:chOff x="3416400" y="76320"/>
            <a:chExt cx="2222280" cy="444240"/>
          </a:xfrm>
        </p:grpSpPr>
        <p:sp>
          <p:nvSpPr>
            <p:cNvPr id="222" name="ANShape"/>
            <p:cNvSpPr/>
            <p:nvPr/>
          </p:nvSpPr>
          <p:spPr>
            <a:xfrm>
              <a:off x="3416400" y="76320"/>
              <a:ext cx="2222280" cy="444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8c3d91"/>
                </a:gs>
              </a:gsLst>
              <a:lin ang="5400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ANText"/>
            <p:cNvSpPr/>
            <p:nvPr/>
          </p:nvSpPr>
          <p:spPr>
            <a:xfrm>
              <a:off x="3416400" y="76320"/>
              <a:ext cx="222228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??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ease select a Team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m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m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m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m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m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m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ResponseCounter"/>
          <p:cNvGrpSpPr/>
          <p:nvPr/>
        </p:nvGrpSpPr>
        <p:grpSpPr>
          <a:xfrm>
            <a:off x="127080" y="1308240"/>
            <a:ext cx="1511280" cy="5422320"/>
            <a:chOff x="127080" y="1308240"/>
            <a:chExt cx="1511280" cy="5422320"/>
          </a:xfrm>
        </p:grpSpPr>
        <p:sp>
          <p:nvSpPr>
            <p:cNvPr id="55" name="RCPole"/>
            <p:cNvSpPr/>
            <p:nvPr/>
          </p:nvSpPr>
          <p:spPr>
            <a:xfrm>
              <a:off x="317520" y="1523880"/>
              <a:ext cx="0" cy="50796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CFlag"/>
            <p:cNvSpPr/>
            <p:nvPr/>
          </p:nvSpPr>
          <p:spPr>
            <a:xfrm>
              <a:off x="368280" y="5841720"/>
              <a:ext cx="1270080" cy="761760"/>
            </a:xfrm>
            <a:custGeom>
              <a:avLst/>
              <a:gdLst>
                <a:gd name="textAreaLeft" fmla="*/ 0 w 1270080"/>
                <a:gd name="textAreaRight" fmla="*/ 1270440 w 1270080"/>
                <a:gd name="textAreaTop" fmla="*/ 98640 h 761760"/>
                <a:gd name="textAreaBottom" fmla="*/ 663120 h 76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7200" y="-3560"/>
                    <a:pt x="14400" y="6360"/>
                    <a:pt x="21600" y="1400"/>
                  </a:cubicBezTo>
                  <a:lnTo>
                    <a:pt x="21600" y="20200"/>
                  </a:lnTo>
                  <a:cubicBezTo>
                    <a:pt x="14400" y="25160"/>
                    <a:pt x="7200" y="15240"/>
                    <a:pt x="0" y="20200"/>
                  </a:cubicBezTo>
                  <a:close/>
                </a:path>
              </a:pathLst>
            </a:custGeom>
            <a:solidFill>
              <a:srgbClr val="bbe0e3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CTop"/>
            <p:cNvSpPr/>
            <p:nvPr/>
          </p:nvSpPr>
          <p:spPr>
            <a:xfrm>
              <a:off x="127080" y="1308240"/>
              <a:ext cx="381240" cy="25380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fffff"/>
                  </a:solidFill>
                  <a:latin typeface="Tahoma"/>
                </a:rPr>
                <a:t>3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CBottom"/>
            <p:cNvSpPr/>
            <p:nvPr/>
          </p:nvSpPr>
          <p:spPr>
            <a:xfrm>
              <a:off x="127080" y="6603840"/>
              <a:ext cx="406440" cy="12672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114480" y="76320"/>
            <a:ext cx="4914360" cy="457200"/>
            <a:chOff x="114480" y="76320"/>
            <a:chExt cx="4914360" cy="457200"/>
          </a:xfrm>
        </p:grpSpPr>
        <p:pic>
          <p:nvPicPr>
            <p:cNvPr id="60" name="" descr=""/>
            <p:cNvPicPr/>
            <p:nvPr/>
          </p:nvPicPr>
          <p:blipFill>
            <a:blip r:embed="rId3"/>
            <a:stretch/>
          </p:blipFill>
          <p:spPr>
            <a:xfrm>
              <a:off x="114480" y="76320"/>
              <a:ext cx="113436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 txBox="1"/>
            <p:nvPr/>
          </p:nvSpPr>
          <p:spPr>
            <a:xfrm>
              <a:off x="1276920" y="131760"/>
              <a:ext cx="3751920" cy="365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200"/>
                      </a:gs>
                      <a:gs pos="100000">
                        <a:srgbClr val="4d0808"/>
                      </a:gs>
                    </a:gsLst>
                    <a:lin ang="5400000"/>
                  </a:gradFill>
                  <a:latin typeface="Broadway"/>
                </a:rPr>
                <a:t>Warm-Up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Broadway"/>
                <a:ea typeface="Broadway"/>
              </a:endParaRPr>
            </a:p>
          </p:txBody>
        </p:sp>
      </p:grpSp>
      <p:grpSp>
        <p:nvGrpSpPr>
          <p:cNvPr id="62" name="AnswerNow"/>
          <p:cNvGrpSpPr/>
          <p:nvPr/>
        </p:nvGrpSpPr>
        <p:grpSpPr>
          <a:xfrm>
            <a:off x="3778200" y="5524560"/>
            <a:ext cx="1587600" cy="952560"/>
            <a:chOff x="3778200" y="5524560"/>
            <a:chExt cx="1587600" cy="952560"/>
          </a:xfrm>
        </p:grpSpPr>
        <p:sp>
          <p:nvSpPr>
            <p:cNvPr id="63" name="ANShape"/>
            <p:cNvSpPr/>
            <p:nvPr/>
          </p:nvSpPr>
          <p:spPr>
            <a:xfrm>
              <a:off x="3778200" y="5524560"/>
              <a:ext cx="1587600" cy="952560"/>
            </a:xfrm>
            <a:prstGeom prst="wedgeEllipseCallout">
              <a:avLst>
                <a:gd name="adj1" fmla="val -43750"/>
                <a:gd name="adj2" fmla="val 70000"/>
              </a:avLst>
            </a:prstGeom>
            <a:solidFill>
              <a:srgbClr val="bbe0e3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ANText"/>
            <p:cNvSpPr/>
            <p:nvPr/>
          </p:nvSpPr>
          <p:spPr>
            <a:xfrm>
              <a:off x="3809880" y="5524560"/>
              <a:ext cx="1524240" cy="9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Impact"/>
                </a:rPr>
                <a:t>Answer Now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2895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ich is strong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8" name="ResponseCounter"/>
          <p:cNvGrpSpPr/>
          <p:nvPr/>
        </p:nvGrpSpPr>
        <p:grpSpPr>
          <a:xfrm>
            <a:off x="127080" y="1308240"/>
            <a:ext cx="1511280" cy="5422320"/>
            <a:chOff x="127080" y="1308240"/>
            <a:chExt cx="1511280" cy="5422320"/>
          </a:xfrm>
        </p:grpSpPr>
        <p:sp>
          <p:nvSpPr>
            <p:cNvPr id="69" name="RCPole"/>
            <p:cNvSpPr/>
            <p:nvPr/>
          </p:nvSpPr>
          <p:spPr>
            <a:xfrm>
              <a:off x="317520" y="1523880"/>
              <a:ext cx="0" cy="50796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CFlag"/>
            <p:cNvSpPr/>
            <p:nvPr/>
          </p:nvSpPr>
          <p:spPr>
            <a:xfrm>
              <a:off x="368280" y="5841720"/>
              <a:ext cx="1270080" cy="761760"/>
            </a:xfrm>
            <a:custGeom>
              <a:avLst/>
              <a:gdLst>
                <a:gd name="textAreaLeft" fmla="*/ 0 w 1270080"/>
                <a:gd name="textAreaRight" fmla="*/ 1270440 w 1270080"/>
                <a:gd name="textAreaTop" fmla="*/ 98640 h 761760"/>
                <a:gd name="textAreaBottom" fmla="*/ 663120 h 76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7200" y="-3560"/>
                    <a:pt x="14400" y="6360"/>
                    <a:pt x="21600" y="1400"/>
                  </a:cubicBezTo>
                  <a:lnTo>
                    <a:pt x="21600" y="20200"/>
                  </a:lnTo>
                  <a:cubicBezTo>
                    <a:pt x="14400" y="25160"/>
                    <a:pt x="7200" y="15240"/>
                    <a:pt x="0" y="20200"/>
                  </a:cubicBezTo>
                  <a:close/>
                </a:path>
              </a:pathLst>
            </a:custGeom>
            <a:solidFill>
              <a:srgbClr val="bbe0e3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CTop"/>
            <p:cNvSpPr/>
            <p:nvPr/>
          </p:nvSpPr>
          <p:spPr>
            <a:xfrm>
              <a:off x="127080" y="1308240"/>
              <a:ext cx="381240" cy="25380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fffff"/>
                  </a:solidFill>
                  <a:latin typeface="Tahoma"/>
                </a:rPr>
                <a:t>3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CBottom"/>
            <p:cNvSpPr/>
            <p:nvPr/>
          </p:nvSpPr>
          <p:spPr>
            <a:xfrm>
              <a:off x="127080" y="6603840"/>
              <a:ext cx="406440" cy="12672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3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# 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# 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3124080" y="-76320"/>
            <a:ext cx="5943240" cy="2057400"/>
            <a:chOff x="3124080" y="-76320"/>
            <a:chExt cx="5943240" cy="2057400"/>
          </a:xfrm>
        </p:grpSpPr>
        <p:pic>
          <p:nvPicPr>
            <p:cNvPr id="75" name="" descr=""/>
            <p:cNvPicPr/>
            <p:nvPr/>
          </p:nvPicPr>
          <p:blipFill>
            <a:blip r:embed="rId3"/>
            <a:stretch/>
          </p:blipFill>
          <p:spPr>
            <a:xfrm>
              <a:off x="3124080" y="367920"/>
              <a:ext cx="1930680" cy="1566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6" name=""/>
            <p:cNvGrpSpPr/>
            <p:nvPr/>
          </p:nvGrpSpPr>
          <p:grpSpPr>
            <a:xfrm>
              <a:off x="6041880" y="344520"/>
              <a:ext cx="3025440" cy="1636560"/>
              <a:chOff x="6041880" y="344520"/>
              <a:chExt cx="3025440" cy="1636560"/>
            </a:xfrm>
          </p:grpSpPr>
          <p:pic>
            <p:nvPicPr>
              <p:cNvPr id="7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7224840" y="344520"/>
                <a:ext cx="1842480" cy="1578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8" name="" descr=""/>
              <p:cNvPicPr/>
              <p:nvPr/>
            </p:nvPicPr>
            <p:blipFill>
              <a:blip r:embed="rId5"/>
              <a:srcRect l="0" t="0" r="27768" b="0"/>
              <a:stretch/>
            </p:blipFill>
            <p:spPr>
              <a:xfrm>
                <a:off x="6041880" y="402120"/>
                <a:ext cx="1330920" cy="15789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9" name=""/>
            <p:cNvSpPr/>
            <p:nvPr/>
          </p:nvSpPr>
          <p:spPr>
            <a:xfrm>
              <a:off x="3663000" y="-76320"/>
              <a:ext cx="703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Broadway"/>
                </a:rPr>
                <a:t>#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068600" y="-76320"/>
              <a:ext cx="70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Broadway"/>
                </a:rPr>
                <a:t>#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448080" y="1186200"/>
              <a:ext cx="595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.5 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11880" y="1186200"/>
              <a:ext cx="595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.5 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500600" y="1186200"/>
              <a:ext cx="59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.5 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AnswerNow"/>
          <p:cNvGrpSpPr/>
          <p:nvPr/>
        </p:nvGrpSpPr>
        <p:grpSpPr>
          <a:xfrm>
            <a:off x="3778200" y="5524560"/>
            <a:ext cx="1587600" cy="952560"/>
            <a:chOff x="3778200" y="5524560"/>
            <a:chExt cx="1587600" cy="952560"/>
          </a:xfrm>
        </p:grpSpPr>
        <p:sp>
          <p:nvSpPr>
            <p:cNvPr id="85" name="ANShape"/>
            <p:cNvSpPr/>
            <p:nvPr/>
          </p:nvSpPr>
          <p:spPr>
            <a:xfrm>
              <a:off x="3778200" y="5524560"/>
              <a:ext cx="1587600" cy="952560"/>
            </a:xfrm>
            <a:prstGeom prst="wedgeEllipseCallout">
              <a:avLst>
                <a:gd name="adj1" fmla="val -43750"/>
                <a:gd name="adj2" fmla="val 70000"/>
              </a:avLst>
            </a:prstGeom>
            <a:solidFill>
              <a:srgbClr val="bbe0e3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ANText"/>
            <p:cNvSpPr/>
            <p:nvPr/>
          </p:nvSpPr>
          <p:spPr>
            <a:xfrm>
              <a:off x="3809880" y="5524560"/>
              <a:ext cx="1524240" cy="9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Impact"/>
                </a:rPr>
                <a:t>Answer Now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2895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ich is strong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3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# 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# 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3200400" y="-76320"/>
            <a:ext cx="5709960" cy="1650240"/>
            <a:chOff x="3200400" y="-76320"/>
            <a:chExt cx="5709960" cy="1650240"/>
          </a:xfrm>
        </p:grpSpPr>
        <p:grpSp>
          <p:nvGrpSpPr>
            <p:cNvPr id="92" name=""/>
            <p:cNvGrpSpPr/>
            <p:nvPr/>
          </p:nvGrpSpPr>
          <p:grpSpPr>
            <a:xfrm>
              <a:off x="4392000" y="891000"/>
              <a:ext cx="1390680" cy="252000"/>
              <a:chOff x="4392000" y="891000"/>
              <a:chExt cx="1390680" cy="252000"/>
            </a:xfrm>
          </p:grpSpPr>
          <p:sp>
            <p:nvSpPr>
              <p:cNvPr id="93" name=""/>
              <p:cNvSpPr/>
              <p:nvPr/>
            </p:nvSpPr>
            <p:spPr>
              <a:xfrm rot="5400000">
                <a:off x="5064480" y="340560"/>
                <a:ext cx="83880" cy="135216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5400000">
                <a:off x="4304520" y="978480"/>
                <a:ext cx="252000" cy="770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920" bIns="7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95" name="" descr=""/>
            <p:cNvPicPr/>
            <p:nvPr/>
          </p:nvPicPr>
          <p:blipFill>
            <a:blip r:embed="rId3"/>
            <a:stretch/>
          </p:blipFill>
          <p:spPr>
            <a:xfrm>
              <a:off x="3200400" y="596520"/>
              <a:ext cx="1005840" cy="85140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96" name=""/>
            <p:cNvCxnSpPr>
              <a:stCxn id="95" idx="0"/>
              <a:endCxn id="94" idx="6"/>
            </p:cNvCxnSpPr>
            <p:nvPr/>
          </p:nvCxnSpPr>
          <p:spPr>
            <a:xfrm flipH="1" rot="16200000">
              <a:off x="3792960" y="506520"/>
              <a:ext cx="547920" cy="727560"/>
            </a:xfrm>
            <a:prstGeom prst="curvedConnector5">
              <a:avLst>
                <a:gd name="adj1" fmla="val -23011"/>
                <a:gd name="adj2" fmla="val 40891"/>
                <a:gd name="adj3" fmla="val -23011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7" name=""/>
            <p:cNvCxnSpPr>
              <a:stCxn id="93" idx="0"/>
              <a:endCxn id="95" idx="2"/>
            </p:cNvCxnSpPr>
            <p:nvPr/>
          </p:nvCxnSpPr>
          <p:spPr>
            <a:xfrm flipH="1">
              <a:off x="3702240" y="1017720"/>
              <a:ext cx="2080440" cy="430560"/>
            </a:xfrm>
            <a:prstGeom prst="curvedConnector5">
              <a:avLst>
                <a:gd name="adj1" fmla="val -7113"/>
                <a:gd name="adj2" fmla="val 64602"/>
                <a:gd name="adj3" fmla="val -7113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98" name=""/>
            <p:cNvSpPr/>
            <p:nvPr/>
          </p:nvSpPr>
          <p:spPr>
            <a:xfrm>
              <a:off x="4425480" y="918720"/>
              <a:ext cx="1357560" cy="224280"/>
            </a:xfrm>
            <a:custGeom>
              <a:avLst/>
              <a:gdLst/>
              <a:ahLst/>
              <a:rect l="l" t="t" r="r" b="b"/>
              <a:pathLst>
                <a:path w="1312" h="256">
                  <a:moveTo>
                    <a:pt x="16" y="256"/>
                  </a:moveTo>
                  <a:cubicBezTo>
                    <a:pt x="8" y="252"/>
                    <a:pt x="0" y="248"/>
                    <a:pt x="16" y="208"/>
                  </a:cubicBezTo>
                  <a:cubicBezTo>
                    <a:pt x="32" y="168"/>
                    <a:pt x="80" y="16"/>
                    <a:pt x="112" y="16"/>
                  </a:cubicBezTo>
                  <a:cubicBezTo>
                    <a:pt x="144" y="16"/>
                    <a:pt x="168" y="208"/>
                    <a:pt x="208" y="208"/>
                  </a:cubicBezTo>
                  <a:cubicBezTo>
                    <a:pt x="248" y="208"/>
                    <a:pt x="312" y="16"/>
                    <a:pt x="352" y="16"/>
                  </a:cubicBezTo>
                  <a:cubicBezTo>
                    <a:pt x="392" y="16"/>
                    <a:pt x="408" y="208"/>
                    <a:pt x="448" y="208"/>
                  </a:cubicBezTo>
                  <a:cubicBezTo>
                    <a:pt x="488" y="208"/>
                    <a:pt x="552" y="16"/>
                    <a:pt x="592" y="16"/>
                  </a:cubicBezTo>
                  <a:cubicBezTo>
                    <a:pt x="632" y="16"/>
                    <a:pt x="648" y="208"/>
                    <a:pt x="688" y="208"/>
                  </a:cubicBezTo>
                  <a:cubicBezTo>
                    <a:pt x="728" y="208"/>
                    <a:pt x="792" y="16"/>
                    <a:pt x="832" y="16"/>
                  </a:cubicBezTo>
                  <a:cubicBezTo>
                    <a:pt x="872" y="16"/>
                    <a:pt x="896" y="208"/>
                    <a:pt x="928" y="208"/>
                  </a:cubicBezTo>
                  <a:cubicBezTo>
                    <a:pt x="960" y="208"/>
                    <a:pt x="992" y="16"/>
                    <a:pt x="1024" y="16"/>
                  </a:cubicBezTo>
                  <a:cubicBezTo>
                    <a:pt x="1056" y="16"/>
                    <a:pt x="1080" y="208"/>
                    <a:pt x="1120" y="208"/>
                  </a:cubicBezTo>
                  <a:cubicBezTo>
                    <a:pt x="1160" y="208"/>
                    <a:pt x="1232" y="32"/>
                    <a:pt x="1264" y="16"/>
                  </a:cubicBezTo>
                  <a:cubicBezTo>
                    <a:pt x="1296" y="0"/>
                    <a:pt x="1304" y="96"/>
                    <a:pt x="1312" y="11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7372080" y="891000"/>
              <a:ext cx="1390680" cy="252000"/>
              <a:chOff x="7372080" y="891000"/>
              <a:chExt cx="1390680" cy="252000"/>
            </a:xfrm>
          </p:grpSpPr>
          <p:sp>
            <p:nvSpPr>
              <p:cNvPr id="100" name=""/>
              <p:cNvSpPr/>
              <p:nvPr/>
            </p:nvSpPr>
            <p:spPr>
              <a:xfrm rot="5400000">
                <a:off x="8044560" y="340560"/>
                <a:ext cx="83880" cy="135216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5400000">
                <a:off x="7284600" y="978480"/>
                <a:ext cx="252000" cy="770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920" bIns="7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2" name="" descr=""/>
            <p:cNvPicPr/>
            <p:nvPr/>
          </p:nvPicPr>
          <p:blipFill>
            <a:blip r:embed="rId4"/>
            <a:stretch/>
          </p:blipFill>
          <p:spPr>
            <a:xfrm>
              <a:off x="6180120" y="596520"/>
              <a:ext cx="1005840" cy="85140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103" name=""/>
            <p:cNvCxnSpPr>
              <a:stCxn id="102" idx="0"/>
              <a:endCxn id="101" idx="6"/>
            </p:cNvCxnSpPr>
            <p:nvPr/>
          </p:nvCxnSpPr>
          <p:spPr>
            <a:xfrm flipH="1" rot="16200000">
              <a:off x="6773040" y="506520"/>
              <a:ext cx="547920" cy="727560"/>
            </a:xfrm>
            <a:prstGeom prst="curvedConnector5">
              <a:avLst>
                <a:gd name="adj1" fmla="val -23011"/>
                <a:gd name="adj2" fmla="val 40891"/>
                <a:gd name="adj3" fmla="val -23011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4" name=""/>
            <p:cNvCxnSpPr>
              <a:stCxn id="100" idx="0"/>
              <a:endCxn id="102" idx="2"/>
            </p:cNvCxnSpPr>
            <p:nvPr/>
          </p:nvCxnSpPr>
          <p:spPr>
            <a:xfrm flipH="1">
              <a:off x="6682320" y="1017720"/>
              <a:ext cx="2080440" cy="430560"/>
            </a:xfrm>
            <a:prstGeom prst="curvedConnector5">
              <a:avLst>
                <a:gd name="adj1" fmla="val -7113"/>
                <a:gd name="adj2" fmla="val 64602"/>
                <a:gd name="adj3" fmla="val -7113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05" name=""/>
            <p:cNvSpPr/>
            <p:nvPr/>
          </p:nvSpPr>
          <p:spPr>
            <a:xfrm>
              <a:off x="7405560" y="918720"/>
              <a:ext cx="562680" cy="224280"/>
            </a:xfrm>
            <a:custGeom>
              <a:avLst/>
              <a:gdLst/>
              <a:ahLst/>
              <a:rect l="l" t="t" r="r" b="b"/>
              <a:pathLst>
                <a:path w="1312" h="256">
                  <a:moveTo>
                    <a:pt x="16" y="256"/>
                  </a:moveTo>
                  <a:cubicBezTo>
                    <a:pt x="8" y="252"/>
                    <a:pt x="0" y="248"/>
                    <a:pt x="16" y="208"/>
                  </a:cubicBezTo>
                  <a:cubicBezTo>
                    <a:pt x="32" y="168"/>
                    <a:pt x="80" y="16"/>
                    <a:pt x="112" y="16"/>
                  </a:cubicBezTo>
                  <a:cubicBezTo>
                    <a:pt x="144" y="16"/>
                    <a:pt x="168" y="208"/>
                    <a:pt x="208" y="208"/>
                  </a:cubicBezTo>
                  <a:cubicBezTo>
                    <a:pt x="248" y="208"/>
                    <a:pt x="312" y="16"/>
                    <a:pt x="352" y="16"/>
                  </a:cubicBezTo>
                  <a:cubicBezTo>
                    <a:pt x="392" y="16"/>
                    <a:pt x="408" y="208"/>
                    <a:pt x="448" y="208"/>
                  </a:cubicBezTo>
                  <a:cubicBezTo>
                    <a:pt x="488" y="208"/>
                    <a:pt x="552" y="16"/>
                    <a:pt x="592" y="16"/>
                  </a:cubicBezTo>
                  <a:cubicBezTo>
                    <a:pt x="632" y="16"/>
                    <a:pt x="648" y="208"/>
                    <a:pt x="688" y="208"/>
                  </a:cubicBezTo>
                  <a:cubicBezTo>
                    <a:pt x="728" y="208"/>
                    <a:pt x="792" y="16"/>
                    <a:pt x="832" y="16"/>
                  </a:cubicBezTo>
                  <a:cubicBezTo>
                    <a:pt x="872" y="16"/>
                    <a:pt x="896" y="208"/>
                    <a:pt x="928" y="208"/>
                  </a:cubicBezTo>
                  <a:cubicBezTo>
                    <a:pt x="960" y="208"/>
                    <a:pt x="992" y="16"/>
                    <a:pt x="1024" y="16"/>
                  </a:cubicBezTo>
                  <a:cubicBezTo>
                    <a:pt x="1056" y="16"/>
                    <a:pt x="1080" y="208"/>
                    <a:pt x="1120" y="208"/>
                  </a:cubicBezTo>
                  <a:cubicBezTo>
                    <a:pt x="1160" y="208"/>
                    <a:pt x="1232" y="32"/>
                    <a:pt x="1264" y="16"/>
                  </a:cubicBezTo>
                  <a:cubicBezTo>
                    <a:pt x="1296" y="0"/>
                    <a:pt x="1304" y="96"/>
                    <a:pt x="1312" y="11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895560" y="-76320"/>
              <a:ext cx="64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Broadway"/>
                </a:rPr>
                <a:t>#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024680" y="-76320"/>
              <a:ext cx="64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Broadway"/>
                </a:rPr>
                <a:t>#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ResponseCounter"/>
          <p:cNvGrpSpPr/>
          <p:nvPr/>
        </p:nvGrpSpPr>
        <p:grpSpPr>
          <a:xfrm>
            <a:off x="127080" y="1308240"/>
            <a:ext cx="1511280" cy="5422320"/>
            <a:chOff x="127080" y="1308240"/>
            <a:chExt cx="1511280" cy="5422320"/>
          </a:xfrm>
        </p:grpSpPr>
        <p:sp>
          <p:nvSpPr>
            <p:cNvPr id="109" name="RCPole"/>
            <p:cNvSpPr/>
            <p:nvPr/>
          </p:nvSpPr>
          <p:spPr>
            <a:xfrm>
              <a:off x="317520" y="1523880"/>
              <a:ext cx="0" cy="50796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CFlag"/>
            <p:cNvSpPr/>
            <p:nvPr/>
          </p:nvSpPr>
          <p:spPr>
            <a:xfrm>
              <a:off x="368280" y="5841720"/>
              <a:ext cx="1270080" cy="761760"/>
            </a:xfrm>
            <a:custGeom>
              <a:avLst/>
              <a:gdLst>
                <a:gd name="textAreaLeft" fmla="*/ 0 w 1270080"/>
                <a:gd name="textAreaRight" fmla="*/ 1270440 w 1270080"/>
                <a:gd name="textAreaTop" fmla="*/ 98640 h 761760"/>
                <a:gd name="textAreaBottom" fmla="*/ 663120 h 76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7200" y="-3560"/>
                    <a:pt x="14400" y="6360"/>
                    <a:pt x="21600" y="1400"/>
                  </a:cubicBezTo>
                  <a:lnTo>
                    <a:pt x="21600" y="20200"/>
                  </a:lnTo>
                  <a:cubicBezTo>
                    <a:pt x="14400" y="25160"/>
                    <a:pt x="7200" y="15240"/>
                    <a:pt x="0" y="20200"/>
                  </a:cubicBezTo>
                  <a:close/>
                </a:path>
              </a:pathLst>
            </a:custGeom>
            <a:solidFill>
              <a:srgbClr val="bbe0e3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CTop"/>
            <p:cNvSpPr/>
            <p:nvPr/>
          </p:nvSpPr>
          <p:spPr>
            <a:xfrm>
              <a:off x="127080" y="1308240"/>
              <a:ext cx="381240" cy="25380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fffff"/>
                  </a:solidFill>
                  <a:latin typeface="Tahoma"/>
                </a:rPr>
                <a:t>3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CBottom"/>
            <p:cNvSpPr/>
            <p:nvPr/>
          </p:nvSpPr>
          <p:spPr>
            <a:xfrm>
              <a:off x="127080" y="6603840"/>
              <a:ext cx="406440" cy="12672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AnswerNow"/>
          <p:cNvGrpSpPr/>
          <p:nvPr/>
        </p:nvGrpSpPr>
        <p:grpSpPr>
          <a:xfrm>
            <a:off x="3778200" y="5524560"/>
            <a:ext cx="1587600" cy="952560"/>
            <a:chOff x="3778200" y="5524560"/>
            <a:chExt cx="1587600" cy="952560"/>
          </a:xfrm>
        </p:grpSpPr>
        <p:sp>
          <p:nvSpPr>
            <p:cNvPr id="114" name="ANShape"/>
            <p:cNvSpPr/>
            <p:nvPr/>
          </p:nvSpPr>
          <p:spPr>
            <a:xfrm>
              <a:off x="3778200" y="5524560"/>
              <a:ext cx="1587600" cy="952560"/>
            </a:xfrm>
            <a:prstGeom prst="wedgeEllipseCallout">
              <a:avLst>
                <a:gd name="adj1" fmla="val -43750"/>
                <a:gd name="adj2" fmla="val 70000"/>
              </a:avLst>
            </a:prstGeom>
            <a:solidFill>
              <a:srgbClr val="bbe0e3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ANText"/>
            <p:cNvSpPr/>
            <p:nvPr/>
          </p:nvSpPr>
          <p:spPr>
            <a:xfrm>
              <a:off x="3809880" y="5524560"/>
              <a:ext cx="1524240" cy="9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Impact"/>
                </a:rPr>
                <a:t>Answer Now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2895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ich is strong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9" name="ResponseCounter"/>
          <p:cNvGrpSpPr/>
          <p:nvPr/>
        </p:nvGrpSpPr>
        <p:grpSpPr>
          <a:xfrm>
            <a:off x="127080" y="1308240"/>
            <a:ext cx="1511280" cy="5422320"/>
            <a:chOff x="127080" y="1308240"/>
            <a:chExt cx="1511280" cy="5422320"/>
          </a:xfrm>
        </p:grpSpPr>
        <p:sp>
          <p:nvSpPr>
            <p:cNvPr id="120" name="RCPole"/>
            <p:cNvSpPr/>
            <p:nvPr/>
          </p:nvSpPr>
          <p:spPr>
            <a:xfrm>
              <a:off x="317520" y="1523880"/>
              <a:ext cx="0" cy="50796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CFlag"/>
            <p:cNvSpPr/>
            <p:nvPr/>
          </p:nvSpPr>
          <p:spPr>
            <a:xfrm>
              <a:off x="368280" y="5841720"/>
              <a:ext cx="1270080" cy="761760"/>
            </a:xfrm>
            <a:custGeom>
              <a:avLst/>
              <a:gdLst>
                <a:gd name="textAreaLeft" fmla="*/ 0 w 1270080"/>
                <a:gd name="textAreaRight" fmla="*/ 1270440 w 1270080"/>
                <a:gd name="textAreaTop" fmla="*/ 98640 h 761760"/>
                <a:gd name="textAreaBottom" fmla="*/ 663120 h 76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7200" y="-3560"/>
                    <a:pt x="14400" y="6360"/>
                    <a:pt x="21600" y="1400"/>
                  </a:cubicBezTo>
                  <a:lnTo>
                    <a:pt x="21600" y="20200"/>
                  </a:lnTo>
                  <a:cubicBezTo>
                    <a:pt x="14400" y="25160"/>
                    <a:pt x="7200" y="15240"/>
                    <a:pt x="0" y="20200"/>
                  </a:cubicBezTo>
                  <a:close/>
                </a:path>
              </a:pathLst>
            </a:custGeom>
            <a:solidFill>
              <a:srgbClr val="bbe0e3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CTop"/>
            <p:cNvSpPr/>
            <p:nvPr/>
          </p:nvSpPr>
          <p:spPr>
            <a:xfrm>
              <a:off x="127080" y="1308240"/>
              <a:ext cx="381240" cy="25380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fffff"/>
                  </a:solidFill>
                  <a:latin typeface="Tahoma"/>
                </a:rPr>
                <a:t>3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CBottom"/>
            <p:cNvSpPr/>
            <p:nvPr/>
          </p:nvSpPr>
          <p:spPr>
            <a:xfrm>
              <a:off x="127080" y="6603840"/>
              <a:ext cx="406440" cy="12672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3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# 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# 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3048120" y="-76320"/>
            <a:ext cx="5788080" cy="2310120"/>
            <a:chOff x="3048120" y="-76320"/>
            <a:chExt cx="5788080" cy="2310120"/>
          </a:xfrm>
        </p:grpSpPr>
        <p:grpSp>
          <p:nvGrpSpPr>
            <p:cNvPr id="126" name=""/>
            <p:cNvGrpSpPr/>
            <p:nvPr/>
          </p:nvGrpSpPr>
          <p:grpSpPr>
            <a:xfrm>
              <a:off x="4256280" y="1277640"/>
              <a:ext cx="1409760" cy="353160"/>
              <a:chOff x="4256280" y="1277640"/>
              <a:chExt cx="1409760" cy="353160"/>
            </a:xfrm>
          </p:grpSpPr>
          <p:sp>
            <p:nvSpPr>
              <p:cNvPr id="127" name=""/>
              <p:cNvSpPr/>
              <p:nvPr/>
            </p:nvSpPr>
            <p:spPr>
              <a:xfrm rot="5400000">
                <a:off x="4921920" y="768240"/>
                <a:ext cx="117360" cy="137052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5400000">
                <a:off x="4118760" y="1415160"/>
                <a:ext cx="353160" cy="78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9" name="" descr=""/>
            <p:cNvPicPr/>
            <p:nvPr/>
          </p:nvPicPr>
          <p:blipFill>
            <a:blip r:embed="rId3"/>
            <a:stretch/>
          </p:blipFill>
          <p:spPr>
            <a:xfrm>
              <a:off x="3048120" y="865440"/>
              <a:ext cx="1019520" cy="119160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130" name=""/>
            <p:cNvCxnSpPr>
              <a:stCxn id="129" idx="0"/>
              <a:endCxn id="128" idx="6"/>
            </p:cNvCxnSpPr>
            <p:nvPr/>
          </p:nvCxnSpPr>
          <p:spPr>
            <a:xfrm flipH="1" rot="16200000">
              <a:off x="3543120" y="879480"/>
              <a:ext cx="766800" cy="738000"/>
            </a:xfrm>
            <a:prstGeom prst="curvedConnector5">
              <a:avLst>
                <a:gd name="adj1" fmla="val -23015"/>
                <a:gd name="adj2" fmla="val 40849"/>
                <a:gd name="adj3" fmla="val -23015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1" name=""/>
            <p:cNvCxnSpPr>
              <a:stCxn id="127" idx="0"/>
              <a:endCxn id="129" idx="2"/>
            </p:cNvCxnSpPr>
            <p:nvPr/>
          </p:nvCxnSpPr>
          <p:spPr>
            <a:xfrm flipH="1">
              <a:off x="3557160" y="1455120"/>
              <a:ext cx="2108880" cy="602640"/>
            </a:xfrm>
            <a:prstGeom prst="curvedConnector5">
              <a:avLst>
                <a:gd name="adj1" fmla="val -7102"/>
                <a:gd name="adj2" fmla="val 64614"/>
                <a:gd name="adj3" fmla="val -7102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32" name=""/>
            <p:cNvSpPr/>
            <p:nvPr/>
          </p:nvSpPr>
          <p:spPr>
            <a:xfrm>
              <a:off x="4289760" y="1316880"/>
              <a:ext cx="1375920" cy="313920"/>
            </a:xfrm>
            <a:custGeom>
              <a:avLst/>
              <a:gdLst/>
              <a:ahLst/>
              <a:rect l="l" t="t" r="r" b="b"/>
              <a:pathLst>
                <a:path w="1312" h="256">
                  <a:moveTo>
                    <a:pt x="16" y="256"/>
                  </a:moveTo>
                  <a:cubicBezTo>
                    <a:pt x="8" y="252"/>
                    <a:pt x="0" y="248"/>
                    <a:pt x="16" y="208"/>
                  </a:cubicBezTo>
                  <a:cubicBezTo>
                    <a:pt x="32" y="168"/>
                    <a:pt x="80" y="16"/>
                    <a:pt x="112" y="16"/>
                  </a:cubicBezTo>
                  <a:cubicBezTo>
                    <a:pt x="144" y="16"/>
                    <a:pt x="168" y="208"/>
                    <a:pt x="208" y="208"/>
                  </a:cubicBezTo>
                  <a:cubicBezTo>
                    <a:pt x="248" y="208"/>
                    <a:pt x="312" y="16"/>
                    <a:pt x="352" y="16"/>
                  </a:cubicBezTo>
                  <a:cubicBezTo>
                    <a:pt x="392" y="16"/>
                    <a:pt x="408" y="208"/>
                    <a:pt x="448" y="208"/>
                  </a:cubicBezTo>
                  <a:cubicBezTo>
                    <a:pt x="488" y="208"/>
                    <a:pt x="552" y="16"/>
                    <a:pt x="592" y="16"/>
                  </a:cubicBezTo>
                  <a:cubicBezTo>
                    <a:pt x="632" y="16"/>
                    <a:pt x="648" y="208"/>
                    <a:pt x="688" y="208"/>
                  </a:cubicBezTo>
                  <a:cubicBezTo>
                    <a:pt x="728" y="208"/>
                    <a:pt x="792" y="16"/>
                    <a:pt x="832" y="16"/>
                  </a:cubicBezTo>
                  <a:cubicBezTo>
                    <a:pt x="872" y="16"/>
                    <a:pt x="896" y="208"/>
                    <a:pt x="928" y="208"/>
                  </a:cubicBezTo>
                  <a:cubicBezTo>
                    <a:pt x="960" y="208"/>
                    <a:pt x="992" y="16"/>
                    <a:pt x="1024" y="16"/>
                  </a:cubicBezTo>
                  <a:cubicBezTo>
                    <a:pt x="1056" y="16"/>
                    <a:pt x="1080" y="208"/>
                    <a:pt x="1120" y="208"/>
                  </a:cubicBezTo>
                  <a:cubicBezTo>
                    <a:pt x="1160" y="208"/>
                    <a:pt x="1232" y="32"/>
                    <a:pt x="1264" y="16"/>
                  </a:cubicBezTo>
                  <a:cubicBezTo>
                    <a:pt x="1296" y="0"/>
                    <a:pt x="1304" y="96"/>
                    <a:pt x="1312" y="11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" name=""/>
            <p:cNvGrpSpPr/>
            <p:nvPr/>
          </p:nvGrpSpPr>
          <p:grpSpPr>
            <a:xfrm>
              <a:off x="7277040" y="1277640"/>
              <a:ext cx="1409760" cy="353160"/>
              <a:chOff x="7277040" y="1277640"/>
              <a:chExt cx="1409760" cy="353160"/>
            </a:xfrm>
          </p:grpSpPr>
          <p:sp>
            <p:nvSpPr>
              <p:cNvPr id="134" name=""/>
              <p:cNvSpPr/>
              <p:nvPr/>
            </p:nvSpPr>
            <p:spPr>
              <a:xfrm rot="5400000">
                <a:off x="7942680" y="768240"/>
                <a:ext cx="117360" cy="137052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5400000">
                <a:off x="7139520" y="1415160"/>
                <a:ext cx="353160" cy="78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36" name="" descr=""/>
            <p:cNvPicPr/>
            <p:nvPr/>
          </p:nvPicPr>
          <p:blipFill>
            <a:blip r:embed="rId4"/>
            <a:stretch/>
          </p:blipFill>
          <p:spPr>
            <a:xfrm>
              <a:off x="6068520" y="865440"/>
              <a:ext cx="1019520" cy="119160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137" name=""/>
            <p:cNvCxnSpPr>
              <a:stCxn id="136" idx="0"/>
              <a:endCxn id="135" idx="6"/>
            </p:cNvCxnSpPr>
            <p:nvPr/>
          </p:nvCxnSpPr>
          <p:spPr>
            <a:xfrm flipH="1" rot="16200000">
              <a:off x="6563880" y="879480"/>
              <a:ext cx="766800" cy="738000"/>
            </a:xfrm>
            <a:prstGeom prst="curvedConnector5">
              <a:avLst>
                <a:gd name="adj1" fmla="val -23015"/>
                <a:gd name="adj2" fmla="val 40849"/>
                <a:gd name="adj3" fmla="val -23015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8" name=""/>
            <p:cNvCxnSpPr>
              <a:stCxn id="134" idx="0"/>
              <a:endCxn id="136" idx="2"/>
            </p:cNvCxnSpPr>
            <p:nvPr/>
          </p:nvCxnSpPr>
          <p:spPr>
            <a:xfrm flipH="1">
              <a:off x="6577920" y="1455120"/>
              <a:ext cx="2108880" cy="602640"/>
            </a:xfrm>
            <a:prstGeom prst="curvedConnector5">
              <a:avLst>
                <a:gd name="adj1" fmla="val -7102"/>
                <a:gd name="adj2" fmla="val 64614"/>
                <a:gd name="adj3" fmla="val -7102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39" name=""/>
            <p:cNvSpPr/>
            <p:nvPr/>
          </p:nvSpPr>
          <p:spPr>
            <a:xfrm>
              <a:off x="7310520" y="1316880"/>
              <a:ext cx="570600" cy="313920"/>
            </a:xfrm>
            <a:custGeom>
              <a:avLst/>
              <a:gdLst/>
              <a:ahLst/>
              <a:rect l="l" t="t" r="r" b="b"/>
              <a:pathLst>
                <a:path w="1312" h="256">
                  <a:moveTo>
                    <a:pt x="16" y="256"/>
                  </a:moveTo>
                  <a:cubicBezTo>
                    <a:pt x="8" y="252"/>
                    <a:pt x="0" y="248"/>
                    <a:pt x="16" y="208"/>
                  </a:cubicBezTo>
                  <a:cubicBezTo>
                    <a:pt x="32" y="168"/>
                    <a:pt x="80" y="16"/>
                    <a:pt x="112" y="16"/>
                  </a:cubicBezTo>
                  <a:cubicBezTo>
                    <a:pt x="144" y="16"/>
                    <a:pt x="168" y="208"/>
                    <a:pt x="208" y="208"/>
                  </a:cubicBezTo>
                  <a:cubicBezTo>
                    <a:pt x="248" y="208"/>
                    <a:pt x="312" y="16"/>
                    <a:pt x="352" y="16"/>
                  </a:cubicBezTo>
                  <a:cubicBezTo>
                    <a:pt x="392" y="16"/>
                    <a:pt x="408" y="208"/>
                    <a:pt x="448" y="208"/>
                  </a:cubicBezTo>
                  <a:cubicBezTo>
                    <a:pt x="488" y="208"/>
                    <a:pt x="552" y="16"/>
                    <a:pt x="592" y="16"/>
                  </a:cubicBezTo>
                  <a:cubicBezTo>
                    <a:pt x="632" y="16"/>
                    <a:pt x="648" y="208"/>
                    <a:pt x="688" y="208"/>
                  </a:cubicBezTo>
                  <a:cubicBezTo>
                    <a:pt x="728" y="208"/>
                    <a:pt x="792" y="16"/>
                    <a:pt x="832" y="16"/>
                  </a:cubicBezTo>
                  <a:cubicBezTo>
                    <a:pt x="872" y="16"/>
                    <a:pt x="896" y="208"/>
                    <a:pt x="928" y="208"/>
                  </a:cubicBezTo>
                  <a:cubicBezTo>
                    <a:pt x="960" y="208"/>
                    <a:pt x="992" y="16"/>
                    <a:pt x="1024" y="16"/>
                  </a:cubicBezTo>
                  <a:cubicBezTo>
                    <a:pt x="1056" y="16"/>
                    <a:pt x="1080" y="208"/>
                    <a:pt x="1120" y="208"/>
                  </a:cubicBezTo>
                  <a:cubicBezTo>
                    <a:pt x="1160" y="208"/>
                    <a:pt x="1232" y="32"/>
                    <a:pt x="1264" y="16"/>
                  </a:cubicBezTo>
                  <a:cubicBezTo>
                    <a:pt x="1296" y="0"/>
                    <a:pt x="1304" y="96"/>
                    <a:pt x="1312" y="11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753000" y="-76320"/>
              <a:ext cx="655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Broadway"/>
                </a:rPr>
                <a:t>#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924600" y="-76320"/>
              <a:ext cx="655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Broadway"/>
                </a:rPr>
                <a:t>#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31520" y="1316880"/>
              <a:ext cx="570600" cy="313920"/>
            </a:xfrm>
            <a:custGeom>
              <a:avLst/>
              <a:gdLst/>
              <a:ahLst/>
              <a:rect l="l" t="t" r="r" b="b"/>
              <a:pathLst>
                <a:path w="1312" h="256">
                  <a:moveTo>
                    <a:pt x="16" y="256"/>
                  </a:moveTo>
                  <a:cubicBezTo>
                    <a:pt x="8" y="252"/>
                    <a:pt x="0" y="248"/>
                    <a:pt x="16" y="208"/>
                  </a:cubicBezTo>
                  <a:cubicBezTo>
                    <a:pt x="32" y="168"/>
                    <a:pt x="80" y="16"/>
                    <a:pt x="112" y="16"/>
                  </a:cubicBezTo>
                  <a:cubicBezTo>
                    <a:pt x="144" y="16"/>
                    <a:pt x="168" y="208"/>
                    <a:pt x="208" y="208"/>
                  </a:cubicBezTo>
                  <a:cubicBezTo>
                    <a:pt x="248" y="208"/>
                    <a:pt x="312" y="16"/>
                    <a:pt x="352" y="16"/>
                  </a:cubicBezTo>
                  <a:cubicBezTo>
                    <a:pt x="392" y="16"/>
                    <a:pt x="408" y="208"/>
                    <a:pt x="448" y="208"/>
                  </a:cubicBezTo>
                  <a:cubicBezTo>
                    <a:pt x="488" y="208"/>
                    <a:pt x="552" y="16"/>
                    <a:pt x="592" y="16"/>
                  </a:cubicBezTo>
                  <a:cubicBezTo>
                    <a:pt x="632" y="16"/>
                    <a:pt x="648" y="208"/>
                    <a:pt x="688" y="208"/>
                  </a:cubicBezTo>
                  <a:cubicBezTo>
                    <a:pt x="728" y="208"/>
                    <a:pt x="792" y="16"/>
                    <a:pt x="832" y="16"/>
                  </a:cubicBezTo>
                  <a:cubicBezTo>
                    <a:pt x="872" y="16"/>
                    <a:pt x="896" y="208"/>
                    <a:pt x="928" y="208"/>
                  </a:cubicBezTo>
                  <a:cubicBezTo>
                    <a:pt x="960" y="208"/>
                    <a:pt x="992" y="16"/>
                    <a:pt x="1024" y="16"/>
                  </a:cubicBezTo>
                  <a:cubicBezTo>
                    <a:pt x="1056" y="16"/>
                    <a:pt x="1080" y="208"/>
                    <a:pt x="1120" y="208"/>
                  </a:cubicBezTo>
                  <a:cubicBezTo>
                    <a:pt x="1160" y="208"/>
                    <a:pt x="1232" y="32"/>
                    <a:pt x="1264" y="16"/>
                  </a:cubicBezTo>
                  <a:cubicBezTo>
                    <a:pt x="1296" y="0"/>
                    <a:pt x="1304" y="96"/>
                    <a:pt x="1312" y="11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881120" y="1454040"/>
              <a:ext cx="50400" cy="176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AnswerNow"/>
          <p:cNvGrpSpPr/>
          <p:nvPr/>
        </p:nvGrpSpPr>
        <p:grpSpPr>
          <a:xfrm>
            <a:off x="3778200" y="5524560"/>
            <a:ext cx="1587600" cy="952560"/>
            <a:chOff x="3778200" y="5524560"/>
            <a:chExt cx="1587600" cy="952560"/>
          </a:xfrm>
        </p:grpSpPr>
        <p:sp>
          <p:nvSpPr>
            <p:cNvPr id="145" name="ANShape"/>
            <p:cNvSpPr/>
            <p:nvPr/>
          </p:nvSpPr>
          <p:spPr>
            <a:xfrm>
              <a:off x="3778200" y="5524560"/>
              <a:ext cx="1587600" cy="952560"/>
            </a:xfrm>
            <a:prstGeom prst="wedgeEllipseCallout">
              <a:avLst>
                <a:gd name="adj1" fmla="val -43750"/>
                <a:gd name="adj2" fmla="val 70000"/>
              </a:avLst>
            </a:prstGeom>
            <a:solidFill>
              <a:srgbClr val="bbe0e3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ANText"/>
            <p:cNvSpPr/>
            <p:nvPr/>
          </p:nvSpPr>
          <p:spPr>
            <a:xfrm>
              <a:off x="3809880" y="5524560"/>
              <a:ext cx="1524240" cy="9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Impact"/>
                </a:rPr>
                <a:t>Answer Now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2895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ich is strong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0" name="ResponseCounter"/>
          <p:cNvGrpSpPr/>
          <p:nvPr/>
        </p:nvGrpSpPr>
        <p:grpSpPr>
          <a:xfrm>
            <a:off x="127080" y="1308240"/>
            <a:ext cx="1511280" cy="5422320"/>
            <a:chOff x="127080" y="1308240"/>
            <a:chExt cx="1511280" cy="5422320"/>
          </a:xfrm>
        </p:grpSpPr>
        <p:sp>
          <p:nvSpPr>
            <p:cNvPr id="151" name="RCPole"/>
            <p:cNvSpPr/>
            <p:nvPr/>
          </p:nvSpPr>
          <p:spPr>
            <a:xfrm>
              <a:off x="317520" y="1523880"/>
              <a:ext cx="0" cy="50796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CFlag"/>
            <p:cNvSpPr/>
            <p:nvPr/>
          </p:nvSpPr>
          <p:spPr>
            <a:xfrm>
              <a:off x="368280" y="5841720"/>
              <a:ext cx="1270080" cy="761760"/>
            </a:xfrm>
            <a:custGeom>
              <a:avLst/>
              <a:gdLst>
                <a:gd name="textAreaLeft" fmla="*/ 0 w 1270080"/>
                <a:gd name="textAreaRight" fmla="*/ 1270440 w 1270080"/>
                <a:gd name="textAreaTop" fmla="*/ 98640 h 761760"/>
                <a:gd name="textAreaBottom" fmla="*/ 663120 h 76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7200" y="-3560"/>
                    <a:pt x="14400" y="6360"/>
                    <a:pt x="21600" y="1400"/>
                  </a:cubicBezTo>
                  <a:lnTo>
                    <a:pt x="21600" y="20200"/>
                  </a:lnTo>
                  <a:cubicBezTo>
                    <a:pt x="14400" y="25160"/>
                    <a:pt x="7200" y="15240"/>
                    <a:pt x="0" y="20200"/>
                  </a:cubicBezTo>
                  <a:close/>
                </a:path>
              </a:pathLst>
            </a:custGeom>
            <a:solidFill>
              <a:srgbClr val="bbe0e3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CTop"/>
            <p:cNvSpPr/>
            <p:nvPr/>
          </p:nvSpPr>
          <p:spPr>
            <a:xfrm>
              <a:off x="127080" y="1308240"/>
              <a:ext cx="381240" cy="25380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fffff"/>
                  </a:solidFill>
                  <a:latin typeface="Tahoma"/>
                </a:rPr>
                <a:t>3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CBottom"/>
            <p:cNvSpPr/>
            <p:nvPr/>
          </p:nvSpPr>
          <p:spPr>
            <a:xfrm>
              <a:off x="127080" y="6603840"/>
              <a:ext cx="406440" cy="12672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3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# 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# 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3048120" y="-76320"/>
            <a:ext cx="5995080" cy="1979640"/>
            <a:chOff x="3048120" y="-76320"/>
            <a:chExt cx="5995080" cy="1979640"/>
          </a:xfrm>
        </p:grpSpPr>
        <p:grpSp>
          <p:nvGrpSpPr>
            <p:cNvPr id="157" name=""/>
            <p:cNvGrpSpPr/>
            <p:nvPr/>
          </p:nvGrpSpPr>
          <p:grpSpPr>
            <a:xfrm>
              <a:off x="4298760" y="1083960"/>
              <a:ext cx="1459800" cy="302400"/>
              <a:chOff x="4298760" y="1083960"/>
              <a:chExt cx="1459800" cy="302400"/>
            </a:xfrm>
          </p:grpSpPr>
          <p:sp>
            <p:nvSpPr>
              <p:cNvPr id="158" name=""/>
              <p:cNvSpPr/>
              <p:nvPr/>
            </p:nvSpPr>
            <p:spPr>
              <a:xfrm rot="5400000">
                <a:off x="4998600" y="524880"/>
                <a:ext cx="100440" cy="141912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rot="5400000">
                <a:off x="4187880" y="1194480"/>
                <a:ext cx="302400" cy="81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60" name="" descr=""/>
            <p:cNvPicPr/>
            <p:nvPr/>
          </p:nvPicPr>
          <p:blipFill>
            <a:blip r:embed="rId3"/>
            <a:stretch/>
          </p:blipFill>
          <p:spPr>
            <a:xfrm>
              <a:off x="3048120" y="730800"/>
              <a:ext cx="1055880" cy="102132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161" name=""/>
            <p:cNvCxnSpPr>
              <a:stCxn id="160" idx="0"/>
              <a:endCxn id="159" idx="6"/>
            </p:cNvCxnSpPr>
            <p:nvPr/>
          </p:nvCxnSpPr>
          <p:spPr>
            <a:xfrm flipH="1" rot="16200000">
              <a:off x="3629160" y="677160"/>
              <a:ext cx="657360" cy="764280"/>
            </a:xfrm>
            <a:prstGeom prst="curvedConnector5">
              <a:avLst>
                <a:gd name="adj1" fmla="val -23013"/>
                <a:gd name="adj2" fmla="val 40857"/>
                <a:gd name="adj3" fmla="val -23013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2" name=""/>
            <p:cNvCxnSpPr>
              <a:stCxn id="158" idx="0"/>
              <a:endCxn id="160" idx="2"/>
            </p:cNvCxnSpPr>
            <p:nvPr/>
          </p:nvCxnSpPr>
          <p:spPr>
            <a:xfrm flipH="1">
              <a:off x="3575520" y="1235880"/>
              <a:ext cx="2183760" cy="516600"/>
            </a:xfrm>
            <a:prstGeom prst="curvedConnector5">
              <a:avLst>
                <a:gd name="adj1" fmla="val -7106"/>
                <a:gd name="adj2" fmla="val 64644"/>
                <a:gd name="adj3" fmla="val -7106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63" name=""/>
            <p:cNvSpPr/>
            <p:nvPr/>
          </p:nvSpPr>
          <p:spPr>
            <a:xfrm>
              <a:off x="4334040" y="1117800"/>
              <a:ext cx="1424880" cy="268920"/>
            </a:xfrm>
            <a:custGeom>
              <a:avLst/>
              <a:gdLst/>
              <a:ahLst/>
              <a:rect l="l" t="t" r="r" b="b"/>
              <a:pathLst>
                <a:path w="1312" h="256">
                  <a:moveTo>
                    <a:pt x="16" y="256"/>
                  </a:moveTo>
                  <a:cubicBezTo>
                    <a:pt x="8" y="252"/>
                    <a:pt x="0" y="248"/>
                    <a:pt x="16" y="208"/>
                  </a:cubicBezTo>
                  <a:cubicBezTo>
                    <a:pt x="32" y="168"/>
                    <a:pt x="80" y="16"/>
                    <a:pt x="112" y="16"/>
                  </a:cubicBezTo>
                  <a:cubicBezTo>
                    <a:pt x="144" y="16"/>
                    <a:pt x="168" y="208"/>
                    <a:pt x="208" y="208"/>
                  </a:cubicBezTo>
                  <a:cubicBezTo>
                    <a:pt x="248" y="208"/>
                    <a:pt x="312" y="16"/>
                    <a:pt x="352" y="16"/>
                  </a:cubicBezTo>
                  <a:cubicBezTo>
                    <a:pt x="392" y="16"/>
                    <a:pt x="408" y="208"/>
                    <a:pt x="448" y="208"/>
                  </a:cubicBezTo>
                  <a:cubicBezTo>
                    <a:pt x="488" y="208"/>
                    <a:pt x="552" y="16"/>
                    <a:pt x="592" y="16"/>
                  </a:cubicBezTo>
                  <a:cubicBezTo>
                    <a:pt x="632" y="16"/>
                    <a:pt x="648" y="208"/>
                    <a:pt x="688" y="208"/>
                  </a:cubicBezTo>
                  <a:cubicBezTo>
                    <a:pt x="728" y="208"/>
                    <a:pt x="792" y="16"/>
                    <a:pt x="832" y="16"/>
                  </a:cubicBezTo>
                  <a:cubicBezTo>
                    <a:pt x="872" y="16"/>
                    <a:pt x="896" y="208"/>
                    <a:pt x="928" y="208"/>
                  </a:cubicBezTo>
                  <a:cubicBezTo>
                    <a:pt x="960" y="208"/>
                    <a:pt x="992" y="16"/>
                    <a:pt x="1024" y="16"/>
                  </a:cubicBezTo>
                  <a:cubicBezTo>
                    <a:pt x="1056" y="16"/>
                    <a:pt x="1080" y="208"/>
                    <a:pt x="1120" y="208"/>
                  </a:cubicBezTo>
                  <a:cubicBezTo>
                    <a:pt x="1160" y="208"/>
                    <a:pt x="1232" y="32"/>
                    <a:pt x="1264" y="16"/>
                  </a:cubicBezTo>
                  <a:cubicBezTo>
                    <a:pt x="1296" y="0"/>
                    <a:pt x="1304" y="96"/>
                    <a:pt x="1312" y="11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7427160" y="1083960"/>
              <a:ext cx="1459800" cy="302400"/>
              <a:chOff x="7427160" y="1083960"/>
              <a:chExt cx="1459800" cy="302400"/>
            </a:xfrm>
          </p:grpSpPr>
          <p:sp>
            <p:nvSpPr>
              <p:cNvPr id="165" name=""/>
              <p:cNvSpPr/>
              <p:nvPr/>
            </p:nvSpPr>
            <p:spPr>
              <a:xfrm rot="5400000">
                <a:off x="8127000" y="524880"/>
                <a:ext cx="100440" cy="141912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7316280" y="1194480"/>
                <a:ext cx="302400" cy="81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67" name="" descr=""/>
            <p:cNvPicPr/>
            <p:nvPr/>
          </p:nvPicPr>
          <p:blipFill>
            <a:blip r:embed="rId4"/>
            <a:stretch/>
          </p:blipFill>
          <p:spPr>
            <a:xfrm>
              <a:off x="6176160" y="730800"/>
              <a:ext cx="1055880" cy="102132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168" name=""/>
            <p:cNvCxnSpPr>
              <a:stCxn id="167" idx="0"/>
              <a:endCxn id="166" idx="6"/>
            </p:cNvCxnSpPr>
            <p:nvPr/>
          </p:nvCxnSpPr>
          <p:spPr>
            <a:xfrm flipH="1" rot="16200000">
              <a:off x="6757200" y="677160"/>
              <a:ext cx="657360" cy="764280"/>
            </a:xfrm>
            <a:prstGeom prst="curvedConnector5">
              <a:avLst>
                <a:gd name="adj1" fmla="val -23013"/>
                <a:gd name="adj2" fmla="val 40857"/>
                <a:gd name="adj3" fmla="val -23013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9" name=""/>
            <p:cNvCxnSpPr>
              <a:stCxn id="170" idx="0"/>
              <a:endCxn id="167" idx="2"/>
            </p:cNvCxnSpPr>
            <p:nvPr/>
          </p:nvCxnSpPr>
          <p:spPr>
            <a:xfrm flipH="1">
              <a:off x="6703560" y="1153080"/>
              <a:ext cx="2183760" cy="599400"/>
            </a:xfrm>
            <a:prstGeom prst="curvedConnector5">
              <a:avLst>
                <a:gd name="adj1" fmla="val -7155"/>
                <a:gd name="adj2" fmla="val 62620"/>
                <a:gd name="adj3" fmla="val -7155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71" name=""/>
            <p:cNvSpPr/>
            <p:nvPr/>
          </p:nvSpPr>
          <p:spPr>
            <a:xfrm>
              <a:off x="3778200" y="-76320"/>
              <a:ext cx="677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Broadway"/>
                </a:rPr>
                <a:t>#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064640" y="-76320"/>
              <a:ext cx="675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Broadway"/>
                </a:rPr>
                <a:t>#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" name=""/>
            <p:cNvGrpSpPr/>
            <p:nvPr/>
          </p:nvGrpSpPr>
          <p:grpSpPr>
            <a:xfrm>
              <a:off x="7531920" y="983160"/>
              <a:ext cx="1459440" cy="302400"/>
              <a:chOff x="7531920" y="983160"/>
              <a:chExt cx="1459440" cy="302400"/>
            </a:xfrm>
          </p:grpSpPr>
          <p:sp>
            <p:nvSpPr>
              <p:cNvPr id="174" name=""/>
              <p:cNvSpPr/>
              <p:nvPr/>
            </p:nvSpPr>
            <p:spPr>
              <a:xfrm rot="5400000">
                <a:off x="8231760" y="424080"/>
                <a:ext cx="100440" cy="141876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rot="5400000">
                <a:off x="7421040" y="1093680"/>
                <a:ext cx="302400" cy="81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>
              <a:off x="7462080" y="932760"/>
              <a:ext cx="1424880" cy="504360"/>
            </a:xfrm>
            <a:custGeom>
              <a:avLst/>
              <a:gdLst/>
              <a:ahLst/>
              <a:rect l="l" t="t" r="r" b="b"/>
              <a:pathLst>
                <a:path w="1312" h="256">
                  <a:moveTo>
                    <a:pt x="16" y="256"/>
                  </a:moveTo>
                  <a:cubicBezTo>
                    <a:pt x="8" y="252"/>
                    <a:pt x="0" y="248"/>
                    <a:pt x="16" y="208"/>
                  </a:cubicBezTo>
                  <a:cubicBezTo>
                    <a:pt x="32" y="168"/>
                    <a:pt x="80" y="16"/>
                    <a:pt x="112" y="16"/>
                  </a:cubicBezTo>
                  <a:cubicBezTo>
                    <a:pt x="144" y="16"/>
                    <a:pt x="168" y="208"/>
                    <a:pt x="208" y="208"/>
                  </a:cubicBezTo>
                  <a:cubicBezTo>
                    <a:pt x="248" y="208"/>
                    <a:pt x="312" y="16"/>
                    <a:pt x="352" y="16"/>
                  </a:cubicBezTo>
                  <a:cubicBezTo>
                    <a:pt x="392" y="16"/>
                    <a:pt x="408" y="208"/>
                    <a:pt x="448" y="208"/>
                  </a:cubicBezTo>
                  <a:cubicBezTo>
                    <a:pt x="488" y="208"/>
                    <a:pt x="552" y="16"/>
                    <a:pt x="592" y="16"/>
                  </a:cubicBezTo>
                  <a:cubicBezTo>
                    <a:pt x="632" y="16"/>
                    <a:pt x="648" y="208"/>
                    <a:pt x="688" y="208"/>
                  </a:cubicBezTo>
                  <a:cubicBezTo>
                    <a:pt x="728" y="208"/>
                    <a:pt x="792" y="16"/>
                    <a:pt x="832" y="16"/>
                  </a:cubicBezTo>
                  <a:cubicBezTo>
                    <a:pt x="872" y="16"/>
                    <a:pt x="896" y="208"/>
                    <a:pt x="928" y="208"/>
                  </a:cubicBezTo>
                  <a:cubicBezTo>
                    <a:pt x="960" y="208"/>
                    <a:pt x="992" y="16"/>
                    <a:pt x="1024" y="16"/>
                  </a:cubicBezTo>
                  <a:cubicBezTo>
                    <a:pt x="1056" y="16"/>
                    <a:pt x="1080" y="208"/>
                    <a:pt x="1120" y="208"/>
                  </a:cubicBezTo>
                  <a:cubicBezTo>
                    <a:pt x="1160" y="208"/>
                    <a:pt x="1232" y="32"/>
                    <a:pt x="1264" y="16"/>
                  </a:cubicBezTo>
                  <a:cubicBezTo>
                    <a:pt x="1296" y="0"/>
                    <a:pt x="1304" y="96"/>
                    <a:pt x="1312" y="11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AnswerNow"/>
          <p:cNvGrpSpPr/>
          <p:nvPr/>
        </p:nvGrpSpPr>
        <p:grpSpPr>
          <a:xfrm>
            <a:off x="3778200" y="5524560"/>
            <a:ext cx="1587600" cy="952560"/>
            <a:chOff x="3778200" y="5524560"/>
            <a:chExt cx="1587600" cy="952560"/>
          </a:xfrm>
        </p:grpSpPr>
        <p:sp>
          <p:nvSpPr>
            <p:cNvPr id="177" name="ANShape"/>
            <p:cNvSpPr/>
            <p:nvPr/>
          </p:nvSpPr>
          <p:spPr>
            <a:xfrm>
              <a:off x="3778200" y="5524560"/>
              <a:ext cx="1587600" cy="952560"/>
            </a:xfrm>
            <a:prstGeom prst="wedgeEllipseCallout">
              <a:avLst>
                <a:gd name="adj1" fmla="val -43750"/>
                <a:gd name="adj2" fmla="val 70000"/>
              </a:avLst>
            </a:prstGeom>
            <a:solidFill>
              <a:srgbClr val="bbe0e3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ANText"/>
            <p:cNvSpPr/>
            <p:nvPr/>
          </p:nvSpPr>
          <p:spPr>
            <a:xfrm>
              <a:off x="3809880" y="5524560"/>
              <a:ext cx="1524240" cy="9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Impact"/>
                </a:rPr>
                <a:t>Answer Now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am Sc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127080" y="1666800"/>
          <a:ext cx="8889840" cy="4556160"/>
        </p:xfrm>
        <a:graphic>
          <a:graphicData uri="http://schemas.openxmlformats.org/drawingml/2006/table">
            <a:tbl>
              <a:tblPr/>
              <a:tblGrid>
                <a:gridCol w="1269720"/>
                <a:gridCol w="3175200"/>
                <a:gridCol w="1269720"/>
                <a:gridCol w="31752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am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am 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am 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4.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am 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6.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am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am 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ticipant Sc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127080" y="1666800"/>
          <a:ext cx="8889840" cy="4556160"/>
        </p:xfrm>
        <a:graphic>
          <a:graphicData uri="http://schemas.openxmlformats.org/drawingml/2006/table">
            <a:tbl>
              <a:tblPr/>
              <a:tblGrid>
                <a:gridCol w="1269720"/>
                <a:gridCol w="3175200"/>
                <a:gridCol w="1269720"/>
                <a:gridCol w="31752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am Boy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ssica Tavenn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andon Sel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ah Manspeak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y DeGrof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ris Mile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dison Geh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hael Harr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cob Flaugh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ck Nardy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day’s 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369800" y="1600200"/>
            <a:ext cx="7313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rm-Up: Electromagnet Team Challe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wor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romagnet Variable Investig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ewor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ject Step 4, Key ?’s 11-15, and Quiz 3 – DUE FRIDAY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was the first battery call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4T11:48:39Z</dcterms:created>
  <dc:creator>CCPS</dc:creator>
  <dc:description/>
  <dc:language>en-US</dc:language>
  <cp:lastModifiedBy>CCPS</cp:lastModifiedBy>
  <dcterms:modified xsi:type="dcterms:W3CDTF">2010-03-24T11:48:58Z</dcterms:modified>
  <cp:revision>2</cp:revision>
  <dc:subject/>
  <dc:title>Slide 1</dc:title>
</cp:coreProperties>
</file>